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2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2.wmf" ContentType="image/x-wmf"/>
  <Override PartName="/ppt/media/image32.png" ContentType="image/png"/>
  <Override PartName="/ppt/media/image43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0.wmf" ContentType="image/x-wmf"/>
  <Override PartName="/ppt/media/image35.wmf" ContentType="image/x-wmf"/>
  <Override PartName="/ppt/media/image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конфигурациј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 атоми као узрок стереоизомерије типа енантиомериј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ске модификациј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 (геометријска изомерија) бицикличних и полицикличних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1187280" y="2205000"/>
          <a:ext cx="655344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5534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4"/>
          <p:cNvSpPr/>
          <p:nvPr/>
        </p:nvSpPr>
        <p:spPr>
          <a:xfrm>
            <a:off x="3213000" y="3357720"/>
            <a:ext cx="25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к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356280" y="5805360"/>
            <a:ext cx="21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к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2195640" y="2349360"/>
          <a:ext cx="475272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349360"/>
                    <a:ext cx="47527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Box 4"/>
          <p:cNvSpPr/>
          <p:nvPr/>
        </p:nvSpPr>
        <p:spPr>
          <a:xfrm>
            <a:off x="1431360" y="1268280"/>
            <a:ext cx="618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пентаноперхидрофенант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скелет стеро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147120" y="5516640"/>
            <a:ext cx="254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/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јчешћ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јчешћ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конфигурацију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684360" y="1916280"/>
            <a:ext cx="7632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е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јације од нормалних дужина су мале јер је енергија потребна з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краћење (компресију) или издужење (истезање) веза ве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е простих (и осталих) веза зависе од степена хибридизациј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одговарајућих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циони угл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1042920" y="4797360"/>
          <a:ext cx="5832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797360"/>
                    <a:ext cx="5832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6"/>
          <p:cNvSpPr/>
          <p:nvPr/>
        </p:nvSpPr>
        <p:spPr>
          <a:xfrm>
            <a:off x="971640" y="587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циони углови простих веза код атома кисеоника, азота и сумпора у већини  органских једињења има вредности које се крећу од 100 до 110 ˚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конфигурацију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360" y="2133720"/>
            <a:ext cx="82072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-ови полупреч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оне силе теже да приближе молекуле, то приближавање се мож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ршити само до извесне границе, после чега долази до међусобног одбиј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и атом и атомски групу у молекулу, постоји одређено растојање од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томског језгра (односно централног језгра у атомској групи) , које се назив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n der Waals-ов полупречник и које дефинише утицајну сферу ил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олуминозност тог атома или гру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465120" y="141300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 Молекулски мо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24072" t="39985" r="55456" b="37377"/>
          <a:stretch/>
        </p:blipFill>
        <p:spPr>
          <a:xfrm>
            <a:off x="468360" y="1989000"/>
            <a:ext cx="2663640" cy="165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rcRect l="56643" t="41142" r="8494" b="37205"/>
          <a:stretch/>
        </p:blipFill>
        <p:spPr>
          <a:xfrm>
            <a:off x="3995640" y="1989000"/>
            <a:ext cx="453708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rcRect l="24542" t="41142" r="57750" b="41142"/>
          <a:stretch/>
        </p:blipFill>
        <p:spPr>
          <a:xfrm>
            <a:off x="3276720" y="4508640"/>
            <a:ext cx="2303280" cy="1296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2627280" y="5805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-Briegleb-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 калотни модел бу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995640" y="378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tice Hall-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скелетни модел циклохек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3860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 помоћу куглица и штап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2771640" y="3141720"/>
          <a:ext cx="3735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141720"/>
                    <a:ext cx="3735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5"/>
          <p:cNvSpPr/>
          <p:nvPr/>
        </p:nvSpPr>
        <p:spPr>
          <a:xfrm>
            <a:off x="755640" y="206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ост је особина крутих објеката да се не могу поклопити са свој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ом у оглед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625120" y="4869000"/>
            <a:ext cx="410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ан молекул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см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 симет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р симет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зменичну осу симет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/>
          <p:cNvSpPr/>
          <p:nvPr/>
        </p:nvSpPr>
        <p:spPr>
          <a:xfrm>
            <a:off x="755640" y="1413000"/>
            <a:ext cx="77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(али не једини) узро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ости органских молекула присуство угљениковог атома кој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вазан за четири различите гру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ост може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нтр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сиј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ропо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а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ликои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5"/>
          <p:cNvSpPr/>
          <p:nvPr/>
        </p:nvSpPr>
        <p:spPr>
          <a:xfrm>
            <a:off x="755640" y="1413000"/>
            <a:ext cx="770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енантиоме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особине које се манифест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резултат интеракција 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им објектима исте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тачке топљења/кључ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а, растворљивост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иралним растварач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 са нехирал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 итд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468360" y="1413000"/>
            <a:ext cx="82072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особине које се манифестују као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 интеракција са несиметричним објектима различите с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ћу раван планарно поларизован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сти за исти угао али у супрот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м смеровима, реагују различитом брзином са хиралним молекулима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моларне смеше енантиомер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и 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активне и називају се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а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ске смеш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116000" y="191628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енантиоме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иастереоизомери се (у пр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пу) разликују по свим физичким особинама, што је вео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за органску синте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конфигурацију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50920" y="184464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стероизом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тичка изомерија) се јавља као последица хиралитета (постојања асиметричног угљениковог атома у молекулу)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еоизом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нантиомери (оптички изомери) односе се као предмет и лик у огледалу, окрећу раван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о поларизоване свет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формула за одређивања број стереоиз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број хиралних угљеников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моносахариди (изузев кетотриозе- дихидроксиацетон) су оптички актив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броја стереоизомера моносахар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ал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е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укупан број угљеникових атома моносахар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а хирал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1614600" y="2276640"/>
          <a:ext cx="593244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2276640"/>
                    <a:ext cx="59324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4"/>
          <p:cNvSpPr/>
          <p:nvPr/>
        </p:nvSpPr>
        <p:spPr>
          <a:xfrm>
            <a:off x="1766880" y="43657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глицералдех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366160" y="429264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-глицералдех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6"/>
          <p:cNvSpPr/>
          <p:nvPr/>
        </p:nvSpPr>
        <p:spPr>
          <a:xfrm>
            <a:off x="1979640" y="5229360"/>
            <a:ext cx="547200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ије ознаке за правац обртања планарно поларизоване светлости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- </a:t>
            </a:r>
            <a:r>
              <a:rPr b="0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-</a:t>
            </a:r>
            <a:r>
              <a:rPr b="0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збачене 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2411280" y="4292640"/>
          <a:ext cx="460872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292640"/>
                    <a:ext cx="46087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2484360" y="1700280"/>
          <a:ext cx="433404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700280"/>
                    <a:ext cx="433404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5"/>
          <p:cNvSpPr/>
          <p:nvPr/>
        </p:nvSpPr>
        <p:spPr>
          <a:xfrm>
            <a:off x="2780280" y="105264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135520" y="3573360"/>
            <a:ext cx="52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cher-ове пројекцио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а конституционо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им хиралним центр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900000" y="2492280"/>
          <a:ext cx="1581120" cy="32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15811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3419640" y="2565360"/>
          <a:ext cx="326520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565360"/>
                    <a:ext cx="326520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5"/>
          <p:cNvSpPr/>
          <p:nvPr/>
        </p:nvSpPr>
        <p:spPr>
          <a:xfrm>
            <a:off x="3132000" y="522936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ереоиз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пара енантиомера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1332000" y="1628640"/>
          <a:ext cx="58323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58323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Box 4"/>
          <p:cNvSpPr/>
          <p:nvPr/>
        </p:nvSpPr>
        <p:spPr>
          <a:xfrm>
            <a:off x="971640" y="422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(2R, 3R)-в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0" y="422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-(2S, 3S)-в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059280" y="465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4"/>
          <p:cNvSpPr/>
          <p:nvPr/>
        </p:nvSpPr>
        <p:spPr>
          <a:xfrm>
            <a:off x="2987640" y="458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R, 3S)-винск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187280" y="1989000"/>
          <a:ext cx="66913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6913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7"/>
          <p:cNvSpPr/>
          <p:nvPr/>
        </p:nvSpPr>
        <p:spPr>
          <a:xfrm>
            <a:off x="2706840" y="5157720"/>
            <a:ext cx="40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нска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хиралан угљеников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395280" y="1773360"/>
          <a:ext cx="242892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24289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3203640" y="198900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R, 4R - С3 није хиралан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у целини хира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Ѕ, 4Ѕ - С3 није хиралан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у целини хира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03640" y="3933720"/>
            <a:ext cx="37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R, 4S - С3 јесте хиралан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конфигурацију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елини симетрича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, 4R – С3 јесте хиралан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конфигурацију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у целини симетрич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619280" y="6021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стереоизоме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 енантиомера и два мезо-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Brace 7"/>
          <p:cNvSpPr/>
          <p:nvPr/>
        </p:nvSpPr>
        <p:spPr>
          <a:xfrm>
            <a:off x="6804000" y="206064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Brace 8"/>
          <p:cNvSpPr/>
          <p:nvPr/>
        </p:nvSpPr>
        <p:spPr>
          <a:xfrm>
            <a:off x="6659640" y="3933720"/>
            <a:ext cx="155520" cy="179892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798920"/>
              <a:gd name="textAreaBottom" fmla="*/ 179496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"/>
                  <a:pt x="10800" y="156"/>
                </a:cubicBezTo>
                <a:lnTo>
                  <a:pt x="10800" y="10644"/>
                </a:lnTo>
                <a:cubicBezTo>
                  <a:pt x="10800" y="10722"/>
                  <a:pt x="16200" y="10800"/>
                  <a:pt x="21600" y="10800"/>
                </a:cubicBezTo>
                <a:cubicBezTo>
                  <a:pt x="16200" y="10800"/>
                  <a:pt x="10800" y="10878"/>
                  <a:pt x="10800" y="10956"/>
                </a:cubicBezTo>
                <a:lnTo>
                  <a:pt x="10800" y="21444"/>
                </a:lnTo>
                <a:cubicBezTo>
                  <a:pt x="10800" y="2152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988680" y="230832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ар енантио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6877800" y="458136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зо-обл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2050920" y="1268280"/>
          <a:ext cx="4465800" cy="48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465800" cy="48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Box 4"/>
          <p:cNvSpPr/>
          <p:nvPr/>
        </p:nvSpPr>
        <p:spPr>
          <a:xfrm>
            <a:off x="3501360" y="31417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571920" y="61657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конфигу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990800" y="234936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 у односу на неки станд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1547640" y="3213000"/>
          <a:ext cx="620424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213000"/>
                    <a:ext cx="62042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5"/>
          <p:cNvSpPr/>
          <p:nvPr/>
        </p:nvSpPr>
        <p:spPr>
          <a:xfrm>
            <a:off x="1406880" y="508464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глицералдех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944320" y="50846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ицералдех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конфигурација моносаха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1549440" y="2563920"/>
          <a:ext cx="597528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2563920"/>
                    <a:ext cx="597528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Box 4"/>
          <p:cNvSpPr/>
          <p:nvPr/>
        </p:nvSpPr>
        <p:spPr>
          <a:xfrm>
            <a:off x="1763280" y="602136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алдохекс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6012000" y="60213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алдохекс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3651120" y="3429000"/>
            <a:ext cx="22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удаље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и ц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4859280" y="4221000"/>
          <a:ext cx="10080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221000"/>
                    <a:ext cx="1008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"/>
          <p:cNvGraphicFramePr/>
          <p:nvPr/>
        </p:nvGraphicFramePr>
        <p:xfrm>
          <a:off x="3203640" y="4221000"/>
          <a:ext cx="106524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221000"/>
                    <a:ext cx="1065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413000"/>
            <a:ext cx="867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ухавата све изомерне просторне  односе који нису енантиомерни. Важан тип диастереоизомерије јес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/tr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геометријска)н изом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стереоизом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 који се разликују по кофигурацији на неким од више хиралних центара; њиховње структуре се не могу преклопити, али се не односе као предмет и његов лик у оглед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пиме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рочити облик диастереоизомериј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 који се разликују по конфигурацији на само једном од виш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их цен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4932360" y="2060640"/>
          <a:ext cx="2232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2232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1332000" y="1125360"/>
          <a:ext cx="2160360" cy="427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125360"/>
                    <a:ext cx="216036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7"/>
          <p:cNvSpPr/>
          <p:nvPr/>
        </p:nvSpPr>
        <p:spPr>
          <a:xfrm>
            <a:off x="1683720" y="551664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глу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375880" y="42926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ал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а конфигу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55640" y="3645000"/>
            <a:ext cx="3456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-кофигу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и опадају у смеру кретања казаљке на сат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441320" y="3645000"/>
            <a:ext cx="388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-кофигу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и опадају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у супротном 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а казаљке на с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353240" y="6093000"/>
            <a:ext cx="66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**приоритети група: редослед приказан на слајду бр. 7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D:\Documents and Settings\Users\Dusan\Desktop\преузимање.jpg"/>
          <p:cNvPicPr/>
          <p:nvPr/>
        </p:nvPicPr>
        <p:blipFill>
          <a:blip r:embed="rId1"/>
          <a:stretch/>
        </p:blipFill>
        <p:spPr>
          <a:xfrm>
            <a:off x="2700360" y="1557360"/>
            <a:ext cx="3833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1"/>
          <p:cNvGraphicFramePr/>
          <p:nvPr/>
        </p:nvGraphicFramePr>
        <p:xfrm>
          <a:off x="179280" y="2205000"/>
          <a:ext cx="8569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8569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Box 5"/>
          <p:cNvSpPr/>
          <p:nvPr/>
        </p:nvSpPr>
        <p:spPr>
          <a:xfrm>
            <a:off x="324000" y="126828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50920" y="4365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-аминопропанска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3"/>
          <p:cNvGraphicFramePr/>
          <p:nvPr/>
        </p:nvGraphicFramePr>
        <p:xfrm>
          <a:off x="3492360" y="1844640"/>
          <a:ext cx="1943280" cy="38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44640"/>
                    <a:ext cx="19432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Box 7"/>
          <p:cNvSpPr/>
          <p:nvPr/>
        </p:nvSpPr>
        <p:spPr>
          <a:xfrm>
            <a:off x="3622680" y="1197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глу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577960" y="5732640"/>
            <a:ext cx="40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R, 3S, 4R, 5R)-2,3,4,5,6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нтахидроксихекс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е операције са Fischer-oви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6384600" y="306864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-млеч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13"/>
          <p:cNvSpPr/>
          <p:nvPr/>
        </p:nvSpPr>
        <p:spPr>
          <a:xfrm>
            <a:off x="395280" y="2133720"/>
            <a:ext cx="6769080" cy="50328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тање формуле у равни хартиј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180 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6"/>
          <p:cNvSpPr/>
          <p:nvPr/>
        </p:nvSpPr>
        <p:spPr>
          <a:xfrm>
            <a:off x="324000" y="3860640"/>
            <a:ext cx="77770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а места три супституента уз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 положај четврт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"/>
          <p:cNvPicPr/>
          <p:nvPr/>
        </p:nvPicPr>
        <p:blipFill>
          <a:blip r:embed="rId1"/>
          <a:srcRect l="3041" t="44906" r="64864" b="40330"/>
          <a:stretch/>
        </p:blipFill>
        <p:spPr>
          <a:xfrm>
            <a:off x="2268360" y="2781360"/>
            <a:ext cx="3743640" cy="96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2"/>
          <a:srcRect l="3041" t="27190" r="55456" b="36393"/>
          <a:stretch/>
        </p:blipFill>
        <p:spPr>
          <a:xfrm>
            <a:off x="1908000" y="4437000"/>
            <a:ext cx="4680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ounded Rectangle 3"/>
          <p:cNvSpPr/>
          <p:nvPr/>
        </p:nvSpPr>
        <p:spPr>
          <a:xfrm>
            <a:off x="755640" y="1413000"/>
            <a:ext cx="676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а места четири супституен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р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rcRect l="54510" t="43922" r="5091" b="20640"/>
          <a:stretch/>
        </p:blipFill>
        <p:spPr>
          <a:xfrm>
            <a:off x="1619280" y="2492280"/>
            <a:ext cx="525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звољене операције са Fischer-oви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826920" y="2492280"/>
            <a:ext cx="7058160" cy="25210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обртање формуле изван равни хартије за 180</a:t>
            </a: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˚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 хоризонталној и </a:t>
            </a: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ертикалној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бртање формуле у равни хартије </a:t>
            </a: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90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међусобна измена места два </a:t>
            </a: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иту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1692360" y="1887480"/>
          <a:ext cx="58690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87480"/>
                    <a:ext cx="5869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Box 4"/>
          <p:cNvSpPr/>
          <p:nvPr/>
        </p:nvSpPr>
        <p:spPr>
          <a:xfrm>
            <a:off x="700920" y="339876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алкил-амонијум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802480" y="332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окс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1186200" y="613584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онијум-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008040" y="60642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окс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917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нтиомерија условљена хиралним хетероатом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"/>
          <p:cNvGraphicFramePr/>
          <p:nvPr/>
        </p:nvGraphicFramePr>
        <p:xfrm>
          <a:off x="2268360" y="1341360"/>
          <a:ext cx="4618080" cy="17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341360"/>
                    <a:ext cx="461808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3"/>
          <p:cNvGraphicFramePr/>
          <p:nvPr/>
        </p:nvGraphicFramePr>
        <p:xfrm>
          <a:off x="324000" y="4221000"/>
          <a:ext cx="397656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397656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6"/>
          <p:cNvSpPr/>
          <p:nvPr/>
        </p:nvSpPr>
        <p:spPr>
          <a:xfrm>
            <a:off x="1253880" y="558972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öger-ова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356000" y="4941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ако се групе на неки начин фиксирају – једињење је оптички акт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1403280" y="30700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и неактивно једињење због веома брз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зије конфигу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ed Rectangle 4"/>
          <p:cNvSpPr/>
          <p:nvPr/>
        </p:nvSpPr>
        <p:spPr>
          <a:xfrm>
            <a:off x="900000" y="1268280"/>
            <a:ext cx="734400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и су макромолекулске, протеинске врсте које поседују тзв. активна места специфичне конфигурације, тако да могу да ступе у реакцију само са супстратом тачно одређене конфигурације. Његов оптички антипод због супротне конфигурације то није у стању, па до реакције неће доћ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Maca\Desktop\pept.jpg"/>
          <p:cNvPicPr/>
          <p:nvPr/>
        </p:nvPicPr>
        <p:blipFill>
          <a:blip r:embed="rId1"/>
          <a:stretch/>
        </p:blipFill>
        <p:spPr>
          <a:xfrm>
            <a:off x="378000" y="3571920"/>
            <a:ext cx="837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539640" y="1989000"/>
          <a:ext cx="820764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764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Box 4"/>
          <p:cNvSpPr/>
          <p:nvPr/>
        </p:nvSpPr>
        <p:spPr>
          <a:xfrm>
            <a:off x="2491560" y="45086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731560" y="45086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573000" y="558972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46120" y="14842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ма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843720" y="14842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глу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7026120" y="14842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галак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5003640" y="4292640"/>
          <a:ext cx="360216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292640"/>
                    <a:ext cx="360216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611280" y="4292640"/>
          <a:ext cx="3457440" cy="12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292640"/>
                    <a:ext cx="345744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5"/>
          <p:cNvSpPr/>
          <p:nvPr/>
        </p:nvSpPr>
        <p:spPr>
          <a:xfrm>
            <a:off x="2629440" y="42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229800" y="434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7093440" y="434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702720" y="580536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нзедрин (амфетам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378840" y="57340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фед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68360" y="1336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спекта медицине, од нарочите важности је да поједини препарати, који се користе у терапијске сврхе, представљају оптички активна једињења, при чему један од енантиомера или показује слабу активност или је сасвим нереакти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бензердин има два оптичка изомера и употребљава се као стимуланс (повећава будност и ссмањује осећај умора) и као средство за сузбијање апетита. Разлика у реактивности некада може бити толика да један оптички антипод омета активност другог, као што је то запажено при дејству ефедрина, чији се (-)-облик прописује за лечење бронхијалне астм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9"/>
          <p:cNvSpPr/>
          <p:nvPr/>
        </p:nvSpPr>
        <p:spPr>
          <a:xfrm>
            <a:off x="250920" y="1197000"/>
            <a:ext cx="8642160" cy="28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раце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1132560" y="2133720"/>
            <a:ext cx="57038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мето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а 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лагање преко диастереоиз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684360" y="436572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мето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има само историјски значај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а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3"/>
          <p:cNvSpPr/>
          <p:nvPr/>
        </p:nvSpPr>
        <p:spPr>
          <a:xfrm>
            <a:off x="2268360" y="2205000"/>
            <a:ext cx="3959280" cy="1152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4"/>
          <p:cNvSpPr/>
          <p:nvPr/>
        </p:nvSpPr>
        <p:spPr>
          <a:xfrm>
            <a:off x="1763640" y="3789360"/>
            <a:ext cx="5112000" cy="122400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5"/>
          <p:cNvSpPr/>
          <p:nvPr/>
        </p:nvSpPr>
        <p:spPr>
          <a:xfrm>
            <a:off x="2340000" y="5445000"/>
            <a:ext cx="3960720" cy="1152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556000" y="2349360"/>
            <a:ext cx="1439640" cy="8636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500720" y="2349360"/>
            <a:ext cx="1439640" cy="8636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195640" y="4005360"/>
            <a:ext cx="1728720" cy="863640"/>
          </a:xfrm>
          <a:prstGeom prst="rect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572000" y="4005360"/>
            <a:ext cx="1800360" cy="863640"/>
          </a:xfrm>
          <a:prstGeom prst="rect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700360" y="5589720"/>
            <a:ext cx="1440000" cy="8636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500720" y="5589720"/>
            <a:ext cx="1439640" cy="8636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Brace 12"/>
          <p:cNvSpPr/>
          <p:nvPr/>
        </p:nvSpPr>
        <p:spPr>
          <a:xfrm rot="5400000">
            <a:off x="3923280" y="2348640"/>
            <a:ext cx="576360" cy="2304720"/>
          </a:xfrm>
          <a:custGeom>
            <a:avLst/>
            <a:gdLst>
              <a:gd name="textAreaLeft" fmla="*/ 0 w 576360"/>
              <a:gd name="textAreaRight" fmla="*/ 208080 w 576360"/>
              <a:gd name="textAreaTop" fmla="*/ 14760 h 2304720"/>
              <a:gd name="textAreaBottom" fmla="*/ 22899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Brace 13"/>
          <p:cNvSpPr/>
          <p:nvPr/>
        </p:nvSpPr>
        <p:spPr>
          <a:xfrm rot="5400000">
            <a:off x="3995280" y="4005000"/>
            <a:ext cx="576000" cy="230364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2303640"/>
              <a:gd name="textAreaBottom" fmla="*/ 2288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4189320" y="3500280"/>
            <a:ext cx="946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)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4252680" y="51577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л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2771640" y="2417760"/>
          <a:ext cx="97344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17760"/>
                    <a:ext cx="9734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716360" y="2419200"/>
          <a:ext cx="9669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419200"/>
                    <a:ext cx="966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382840" y="4075200"/>
          <a:ext cx="139716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82840" y="4075200"/>
                    <a:ext cx="1397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788000" y="4073400"/>
          <a:ext cx="1390680" cy="79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073400"/>
                    <a:ext cx="13906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7"/>
          <p:cNvGraphicFramePr/>
          <p:nvPr/>
        </p:nvGraphicFramePr>
        <p:xfrm>
          <a:off x="2743200" y="5659560"/>
          <a:ext cx="139716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5659560"/>
                    <a:ext cx="1397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4716360" y="5659560"/>
          <a:ext cx="96696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6360" y="5659560"/>
                    <a:ext cx="9669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гање преко диастереоизом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58920" y="1700280"/>
            <a:ext cx="2665440" cy="576360"/>
          </a:xfrm>
          <a:prstGeom prst="rect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±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–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енантиоме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643280" y="1700280"/>
            <a:ext cx="2665440" cy="576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енанти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16000" y="2708280"/>
            <a:ext cx="2808360" cy="5763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+)-Н-баз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643280" y="2708280"/>
            <a:ext cx="2881440" cy="57636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+)-Н-баз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971640" y="3645000"/>
            <a:ext cx="6769080" cy="10792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диастереоизомерних соли које се могу одвојити на основу различитих физичких осо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755640" y="5300640"/>
            <a:ext cx="3168720" cy="3603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+)-Н-баз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716360" y="5300640"/>
            <a:ext cx="3384720" cy="36036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(+)-Н-баз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258920" y="5950080"/>
            <a:ext cx="2665440" cy="3585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4716360" y="5950080"/>
            <a:ext cx="2664000" cy="35856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6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8"/>
          <p:cNvSpPr/>
          <p:nvPr/>
        </p:nvSpPr>
        <p:spPr>
          <a:xfrm>
            <a:off x="4356000" y="5013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Straight Arrow Connector 22"/>
          <p:cNvCxnSpPr/>
          <p:nvPr/>
        </p:nvCxnSpPr>
        <p:spPr>
          <a:xfrm>
            <a:off x="6084360" y="5013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Straight Connector 25"/>
          <p:cNvSpPr/>
          <p:nvPr/>
        </p:nvSpPr>
        <p:spPr>
          <a:xfrm flipH="1">
            <a:off x="2556000" y="5013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/>
          <p:nvPr/>
        </p:nvCxnSpPr>
        <p:spPr>
          <a:xfrm>
            <a:off x="2555640" y="5013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Straight Arrow Connector 29"/>
          <p:cNvCxnSpPr/>
          <p:nvPr/>
        </p:nvCxnSpPr>
        <p:spPr>
          <a:xfrm>
            <a:off x="6084360" y="5660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2" name="TextBox 39"/>
          <p:cNvSpPr/>
          <p:nvPr/>
        </p:nvSpPr>
        <p:spPr>
          <a:xfrm>
            <a:off x="414216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0"/>
          <p:cNvSpPr/>
          <p:nvPr/>
        </p:nvSpPr>
        <p:spPr>
          <a:xfrm>
            <a:off x="414216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42"/>
          <p:cNvCxnSpPr/>
          <p:nvPr/>
        </p:nvCxnSpPr>
        <p:spPr>
          <a:xfrm>
            <a:off x="4284360" y="2276280"/>
            <a:ext cx="108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5" name="Rectangle 46"/>
          <p:cNvSpPr/>
          <p:nvPr/>
        </p:nvSpPr>
        <p:spPr>
          <a:xfrm>
            <a:off x="4716360" y="6497640"/>
            <a:ext cx="2664000" cy="360360"/>
          </a:xfrm>
          <a:prstGeom prst="rect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7"/>
          <p:cNvSpPr/>
          <p:nvPr/>
        </p:nvSpPr>
        <p:spPr>
          <a:xfrm>
            <a:off x="1258920" y="6497640"/>
            <a:ext cx="2665440" cy="3603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–COO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48"/>
          <p:cNvCxnSpPr/>
          <p:nvPr/>
        </p:nvCxnSpPr>
        <p:spPr>
          <a:xfrm>
            <a:off x="2555640" y="6308640"/>
            <a:ext cx="10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51"/>
          <p:cNvCxnSpPr/>
          <p:nvPr/>
        </p:nvCxnSpPr>
        <p:spPr>
          <a:xfrm>
            <a:off x="6084360" y="6308640"/>
            <a:ext cx="108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67"/>
          <p:cNvCxnSpPr/>
          <p:nvPr/>
        </p:nvCxnSpPr>
        <p:spPr>
          <a:xfrm>
            <a:off x="2555640" y="5660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1042920" y="2060640"/>
          <a:ext cx="72961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2961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 oлефин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ометријска изомериј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6012000" y="4941720"/>
          <a:ext cx="281916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4941720"/>
                    <a:ext cx="2819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4"/>
          <p:cNvSpPr/>
          <p:nvPr/>
        </p:nvSpPr>
        <p:spPr>
          <a:xfrm>
            <a:off x="611280" y="256536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ротације око двогубе в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пституенти на С-атомима  двогуб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езе имају дефинисан положа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332000" y="1484280"/>
            <a:ext cx="6696000" cy="4608720"/>
          </a:xfrm>
          <a:prstGeom prst="rect">
            <a:avLst/>
          </a:prstGeom>
          <a:solidFill>
            <a:srgbClr val="d1d1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79640" y="1700280"/>
            <a:ext cx="5400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cis</a:t>
            </a: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конфигурација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(или сличне групе) са ист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двогуб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trans</a:t>
            </a: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конфигурација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(или сличне групе) са различитих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двогу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Z)-</a:t>
            </a: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онфигурација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са већим приоритетима са ист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двогуб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Е)-конфигурација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са већим приоритетима са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 страна двогуб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и груп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Punched Tape 3"/>
          <p:cNvSpPr/>
          <p:nvPr/>
        </p:nvSpPr>
        <p:spPr>
          <a:xfrm>
            <a:off x="971640" y="2565360"/>
            <a:ext cx="6913440" cy="3240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1403280" y="3357720"/>
          <a:ext cx="597708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357720"/>
                    <a:ext cx="59770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476360" y="1700280"/>
          <a:ext cx="612000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2000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6"/>
          <p:cNvSpPr/>
          <p:nvPr/>
        </p:nvSpPr>
        <p:spPr>
          <a:xfrm>
            <a:off x="1619280" y="2852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2-бу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)-2-бу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867280" y="278136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2-бу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-2-бу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84360" y="5877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2-хлорбутенди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-2-хлорбутенди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003640" y="587700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2-хлорбутенди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)-2-хлорбутенди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99780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62880" y="587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061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 (геометријска изомерија) алицикличних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468360" y="2852640"/>
          <a:ext cx="251928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852640"/>
                    <a:ext cx="25192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468360" y="4941720"/>
          <a:ext cx="201600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941720"/>
                    <a:ext cx="201600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5"/>
          <p:cNvSpPr/>
          <p:nvPr/>
        </p:nvSpPr>
        <p:spPr>
          <a:xfrm>
            <a:off x="2995920" y="26370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д средње равни пр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351520" y="386064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средње равни пр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495880" y="4797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средње равни пр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2207880" y="630864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средње равни пр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4924440" y="32130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диметилциклохек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083560" y="5516640"/>
            <a:ext cx="32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диметилциклохек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dcterms:modified xsi:type="dcterms:W3CDTF">2017-09-04T12:37:31Z</dcterms:modified>
  <cp:revision>340</cp:revision>
  <dc:subject/>
  <dc:title>Slide 1</dc:title>
</cp:coreProperties>
</file>